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480F-6A7F-45D8-9DAB-0DD7F527B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9BA1-DC31-4290-96B0-8C320A53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A374-AA87-4D3F-A9F6-13D5FEB4F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DD8C-8132-4DAB-B702-4B9E5F01E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4620-EAF0-44C4-98E6-D0F8CBAB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402F-4763-4A27-BF09-63C9DAED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C2C4-D938-4598-B9E2-77BD7FD1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BC12-0866-4AC8-B3AD-48960519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7F35-FE80-491B-9191-63D5953D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F762-CA5D-4565-AE9C-C072F424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2C06-4177-401A-B6FB-D4F81808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B258-5059-4510-90DB-7F681DE2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C332-B2DB-4A4F-BD69-82F15DD56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685800"/>
            <a:ext cx="2736720" cy="2590920"/>
            <a:chOff x="304920" y="685800"/>
            <a:chExt cx="2736720" cy="2590920"/>
          </a:xfrm>
        </p:grpSpPr>
        <p:sp>
          <p:nvSpPr>
            <p:cNvPr id="42" name=""/>
            <p:cNvSpPr/>
            <p:nvPr/>
          </p:nvSpPr>
          <p:spPr>
            <a:xfrm>
              <a:off x="304920" y="685800"/>
              <a:ext cx="273672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Marketing-Mi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4920" y="901800"/>
              <a:ext cx="136836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RESS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04920" y="1117440"/>
              <a:ext cx="136692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Charg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673280" y="901800"/>
              <a:ext cx="136836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4Me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3280" y="1117440"/>
              <a:ext cx="136692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4920" y="154944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mic Sans MS"/>
                </a:rPr>
                <a:t>Printwerbung(€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73280" y="154944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mic Sans MS"/>
                </a:rPr>
                <a:t>Printwerbung(€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20" y="1981080"/>
              <a:ext cx="136692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673280" y="1981080"/>
              <a:ext cx="136692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24130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73280" y="24130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920" y="901800"/>
              <a:ext cx="1368360" cy="1942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673280" y="901800"/>
              <a:ext cx="1368360" cy="1942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2844720"/>
              <a:ext cx="273672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Verkau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4920" y="685800"/>
              <a:ext cx="2736720" cy="2590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3995640" y="907920"/>
            <a:ext cx="1657440" cy="1513080"/>
            <a:chOff x="3995640" y="907920"/>
            <a:chExt cx="1657440" cy="1513080"/>
          </a:xfrm>
        </p:grpSpPr>
        <p:sp>
          <p:nvSpPr>
            <p:cNvPr id="58" name=""/>
            <p:cNvSpPr/>
            <p:nvPr/>
          </p:nvSpPr>
          <p:spPr>
            <a:xfrm>
              <a:off x="3995640" y="907920"/>
              <a:ext cx="165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0" rIns="432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1. Geplanter Absat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995640" y="1123920"/>
              <a:ext cx="1656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RESS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995640" y="1555920"/>
              <a:ext cx="165600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Großabnehmer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95640" y="907920"/>
              <a:ext cx="1657440" cy="1513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5651640" y="1052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80000" y="8366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56360" y="692280"/>
            <a:ext cx="2736720" cy="1296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Kapazität Masch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enötigte Kapazität: 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erfügbare Kapazität: 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Kapazitätsauslastung: __________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058920" y="10526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19640" y="8366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788000" y="3716280"/>
            <a:ext cx="4033800" cy="1800360"/>
            <a:chOff x="4788000" y="3716280"/>
            <a:chExt cx="4033800" cy="1800360"/>
          </a:xfrm>
        </p:grpSpPr>
        <p:sp>
          <p:nvSpPr>
            <p:cNvPr id="68" name=""/>
            <p:cNvSpPr/>
            <p:nvPr/>
          </p:nvSpPr>
          <p:spPr>
            <a:xfrm>
              <a:off x="4788000" y="3716280"/>
              <a:ext cx="4033800" cy="1800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Kapazität Mitarbeiter in Produk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geplanter Absatz:  ____ Ch. DRESS        ____ St. 4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heiten pro MA:   _____ DRESS           _______ 4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= Personalbedarf:         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ktueller Personalbestand: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stellungen/Entlassungen: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6084720" y="4221360"/>
              <a:ext cx="2519640" cy="142920"/>
              <a:chOff x="6084720" y="4221360"/>
              <a:chExt cx="2519640" cy="142920"/>
            </a:xfrm>
          </p:grpSpPr>
          <p:sp>
            <p:nvSpPr>
              <p:cNvPr id="70" name=""/>
              <p:cNvSpPr/>
              <p:nvPr/>
            </p:nvSpPr>
            <p:spPr>
              <a:xfrm>
                <a:off x="6084720" y="4294440"/>
                <a:ext cx="10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596360" y="4294440"/>
                <a:ext cx="10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7236000" y="4221360"/>
                <a:ext cx="144360" cy="142920"/>
                <a:chOff x="7236000" y="4221360"/>
                <a:chExt cx="144360" cy="14292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7236000" y="4294440"/>
                  <a:ext cx="14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7308720" y="4221360"/>
                  <a:ext cx="0" cy="142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5" name=""/>
          <p:cNvGrpSpPr/>
          <p:nvPr/>
        </p:nvGrpSpPr>
        <p:grpSpPr>
          <a:xfrm>
            <a:off x="324000" y="3573360"/>
            <a:ext cx="2736720" cy="3095640"/>
            <a:chOff x="324000" y="3573360"/>
            <a:chExt cx="2736720" cy="3095640"/>
          </a:xfrm>
        </p:grpSpPr>
        <p:sp>
          <p:nvSpPr>
            <p:cNvPr id="76" name=""/>
            <p:cNvSpPr/>
            <p:nvPr/>
          </p:nvSpPr>
          <p:spPr>
            <a:xfrm>
              <a:off x="324000" y="357336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Beschaff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4000" y="378900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T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4000" y="400500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692360" y="378900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POLO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92360" y="400500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4000" y="4436640"/>
              <a:ext cx="136656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92360" y="4436640"/>
              <a:ext cx="13669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4000" y="4941720"/>
              <a:ext cx="1366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92360" y="4941720"/>
              <a:ext cx="1366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24000" y="378900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92360" y="378900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4000" y="544500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HILFSSTOF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24000" y="3573360"/>
              <a:ext cx="2736720" cy="3095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24000" y="5660640"/>
              <a:ext cx="273672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: DRESS + 4M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24000" y="6094080"/>
              <a:ext cx="27367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4000" y="6381360"/>
              <a:ext cx="273672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826920" y="25416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tscheidungsfindung ohne Versandmarkt (P1 und 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64000" y="2492280"/>
            <a:ext cx="1656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12000" y="25653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058920" y="2565360"/>
            <a:ext cx="1368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48000" y="250668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95640" y="1989000"/>
            <a:ext cx="1656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4Me (Stück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5560" y="1981080"/>
            <a:ext cx="128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nzahl MA Desig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1981080"/>
            <a:ext cx="14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nzahl MA Desig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 4 Entscheidungsfindun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3:58:15Z</dcterms:created>
  <dc:creator>WHS</dc:creator>
  <dc:description/>
  <dc:language>en-US</dc:language>
  <cp:lastModifiedBy>EGS</cp:lastModifiedBy>
  <dcterms:modified xsi:type="dcterms:W3CDTF">2008-07-17T12:32:51Z</dcterms:modified>
  <cp:revision>18</cp:revision>
  <dc:subject/>
  <dc:title>Folie 1</dc:title>
</cp:coreProperties>
</file>